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656-9D74-4892-A65A-3AD07A5F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0E3-6E9E-41B5-8F57-92EDF190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FEB-F7AB-4BD3-931D-94E34F9E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C3B-3AC1-4C75-B9C7-1EC97F02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0482-A2C7-4772-9B00-A1082C82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B240-1D3D-4B44-9474-10DB96E9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9C67-4F74-4555-8F3B-4744958E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2FC3-2D87-4085-8EA4-892F6D2A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996B-8EF2-4425-845A-1A761A76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F9AA-84E8-4D88-AD22-F43C5FCD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BD47-24D6-430A-841E-4E2FF63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747-9927-40A8-99E0-0ABFE87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A064-49E9-4808-92AE-10347E3E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9507-CF82-4AF7-836F-7DCE941C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E0A2-3945-4BD7-901B-C1E52DCA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4F0C-D1F8-44D7-B8C4-E9A5FF53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014A-7928-451E-B55B-DB494F0B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3AB-9172-444C-A7AE-1EF05F47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5FC-1E41-4FA7-8531-006E7C55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F94-D4C4-4D25-9CF4-23FD5848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F5F-FD69-46A3-A075-7B721E7D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D8F-54EA-46B7-B29E-9854565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086-06C2-4588-8286-ED3A0D0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909-8FDC-476C-BFA4-F4D4D40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8000-6405-4A74-A5D0-40F3C83E511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476D-D9E8-494E-AC2D-6CF7C7CA35F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eb.mit.edu/invent/iow/judson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 rot="798600">
            <a:off x="2133360" y="456840"/>
            <a:ext cx="26733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07fb18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255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07fb18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 txBox="1"/>
          <p:nvPr/>
        </p:nvSpPr>
        <p:spPr>
          <a:xfrm rot="20910600">
            <a:off x="685800" y="2514240"/>
            <a:ext cx="7108920" cy="20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efe0e"/>
                    </a:gs>
                    <a:gs pos="100000">
                      <a:srgbClr val="753bc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Zipper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efe0e"/>
                  </a:gs>
                  <a:gs pos="100000">
                    <a:srgbClr val="753bc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5257800"/>
            <a:ext cx="2895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Jenn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9/27/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eriod 7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puter # 8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5638680"/>
            <a:ext cx="4952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Music; Free Play Music, </a:t>
            </a:r>
            <a:r>
              <a:rPr b="0" lang="en-US" sz="1800" spc="-1" strike="noStrike" u="sng">
                <a:solidFill>
                  <a:srgbClr val="00ff00"/>
                </a:solidFill>
                <a:uFillTx/>
                <a:latin typeface="Arial Black"/>
              </a:rPr>
              <a:t>Chicago</a:t>
            </a: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00ff00"/>
                </a:solidFill>
                <a:uFillTx/>
                <a:latin typeface="Arial Black"/>
              </a:rPr>
              <a:t>Blues</a:t>
            </a: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, 10/4/10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800600" y="6019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6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Invention: The Zipp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The first name of the zipper was the clasp-lock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They were found on almost every piece of clothing in the 1920’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The first clasp-locker got jammed very oft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Fashion people renamed the clasp-locker the zipp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It is one of the most common thing to find on cloth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Inventor: Whitcomb Jud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Whitcomb Entered the clasp-locker in state fair but no one ca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He was already a successful inventor in the 19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 centu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He died in 1909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Whitcomb never got to see how famous the zipper beca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4572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1885680" cy="29145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Judson"/>
          <p:cNvPicPr/>
          <p:nvPr/>
        </p:nvPicPr>
        <p:blipFill>
          <a:blip r:embed="rId3"/>
          <a:srcRect l="22394" t="0" r="20892" b="0"/>
          <a:stretch/>
        </p:blipFill>
        <p:spPr>
          <a:xfrm>
            <a:off x="838080" y="2286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Judson"/>
          <p:cNvPicPr/>
          <p:nvPr/>
        </p:nvPicPr>
        <p:blipFill>
          <a:blip r:embed="rId4"/>
          <a:srcRect l="79328" t="0" r="0" b="0"/>
          <a:stretch/>
        </p:blipFill>
        <p:spPr>
          <a:xfrm>
            <a:off x="1905120" y="3124080"/>
            <a:ext cx="1523880" cy="23623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0" y="6078600"/>
            <a:ext cx="571500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LEMELSON MIT, The Zipper 9/29/10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http://web.mit.edu/invent/iow/judson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38Z</dcterms:created>
  <dc:creator>install</dc:creator>
  <dc:description/>
  <dc:language>en-US</dc:language>
  <cp:lastModifiedBy>install</cp:lastModifiedBy>
  <dcterms:modified xsi:type="dcterms:W3CDTF">2010-10-14T17:29:31Z</dcterms:modified>
  <cp:revision>14</cp:revision>
  <dc:subject/>
  <dc:title>Slide 1</dc:title>
</cp:coreProperties>
</file>